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4A3-4E79-46E4-AEA5-9EA82A8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660-94FF-46E3-AE5B-EEB793B7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177-E82A-479C-BF45-E7649E0A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99E-CD08-4880-A12C-13F9D973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FA6-B3B7-4F09-A467-87E10C00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1DE-C805-4846-9C6F-6164593F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9E7-F9CA-4964-BBF6-2CE21F46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9A8-050F-4A00-B756-A61B7BF1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587-9D15-44A3-A06A-483155F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109-E058-4469-951C-04CE80B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63A-CA4E-4A16-8A4D-A70177F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DD5-6261-4EF6-92C6-148B58CC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81F9-0CD3-48EF-B15A-CE8A526E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73480" y="620640"/>
            <a:ext cx="6192720" cy="6138000"/>
            <a:chOff x="1473480" y="620640"/>
            <a:chExt cx="6192720" cy="6138000"/>
          </a:xfrm>
        </p:grpSpPr>
        <p:sp>
          <p:nvSpPr>
            <p:cNvPr id="42" name="_s2057"/>
            <p:cNvSpPr/>
            <p:nvPr/>
          </p:nvSpPr>
          <p:spPr>
            <a:xfrm>
              <a:off x="2953440" y="620640"/>
              <a:ext cx="3234960" cy="3440520"/>
            </a:xfrm>
            <a:custGeom>
              <a:avLst/>
              <a:gdLst>
                <a:gd name="textAreaLeft" fmla="*/ 0 w 3234960"/>
                <a:gd name="textAreaRight" fmla="*/ 3235320 w 323496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8"/>
            <p:cNvSpPr/>
            <p:nvPr/>
          </p:nvSpPr>
          <p:spPr>
            <a:xfrm rot="4320000">
              <a:off x="3875760" y="1515600"/>
              <a:ext cx="3440520" cy="3235320"/>
            </a:xfrm>
            <a:custGeom>
              <a:avLst/>
              <a:gdLst>
                <a:gd name="textAreaLeft" fmla="*/ 0 w 3440520"/>
                <a:gd name="textAreaRight" fmla="*/ 3440880 w 3440520"/>
                <a:gd name="textAreaTop" fmla="*/ 0 h 3235320"/>
                <a:gd name="textAreaBottom" fmla="*/ 3235680 h 32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0"/>
            <p:cNvSpPr/>
            <p:nvPr/>
          </p:nvSpPr>
          <p:spPr>
            <a:xfrm rot="8640000">
              <a:off x="3586320" y="2695680"/>
              <a:ext cx="3235320" cy="3440520"/>
            </a:xfrm>
            <a:custGeom>
              <a:avLst/>
              <a:gdLst>
                <a:gd name="textAreaLeft" fmla="*/ 0 w 3235320"/>
                <a:gd name="textAreaRight" fmla="*/ 3235680 w 323532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2"/>
            <p:cNvSpPr/>
            <p:nvPr/>
          </p:nvSpPr>
          <p:spPr>
            <a:xfrm rot="12960000">
              <a:off x="2317320" y="2695320"/>
              <a:ext cx="3235320" cy="3440520"/>
            </a:xfrm>
            <a:custGeom>
              <a:avLst/>
              <a:gdLst>
                <a:gd name="textAreaLeft" fmla="*/ 0 w 3235320"/>
                <a:gd name="textAreaRight" fmla="*/ 3235680 w 3235320"/>
                <a:gd name="textAreaTop" fmla="*/ 0 h 3440520"/>
                <a:gd name="textAreaBottom" fmla="*/ 3440880 h 344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4"/>
            <p:cNvSpPr/>
            <p:nvPr/>
          </p:nvSpPr>
          <p:spPr>
            <a:xfrm rot="17280000">
              <a:off x="1823040" y="1515600"/>
              <a:ext cx="3440520" cy="3235320"/>
            </a:xfrm>
            <a:custGeom>
              <a:avLst/>
              <a:gdLst>
                <a:gd name="textAreaLeft" fmla="*/ 0 w 3440520"/>
                <a:gd name="textAreaRight" fmla="*/ 3440880 w 3440520"/>
                <a:gd name="textAreaTop" fmla="*/ 0 h 3235320"/>
                <a:gd name="textAreaBottom" fmla="*/ 3235680 h 32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5"/>
            <p:cNvSpPr/>
            <p:nvPr/>
          </p:nvSpPr>
          <p:spPr>
            <a:xfrm>
              <a:off x="5401800" y="768960"/>
              <a:ext cx="118944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aching Pre-bri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Choose Foc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Discuss Best Pract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Agree on Data Col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6"/>
            <p:cNvSpPr/>
            <p:nvPr/>
          </p:nvSpPr>
          <p:spPr>
            <a:xfrm>
              <a:off x="6283800" y="3650040"/>
              <a:ext cx="118944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b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Classroom Ob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Classroom Video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Data Col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9"/>
            <p:cNvSpPr/>
            <p:nvPr/>
          </p:nvSpPr>
          <p:spPr>
            <a:xfrm>
              <a:off x="3978720" y="5432040"/>
              <a:ext cx="118944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bri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Refl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Present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Explore Op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1"/>
            <p:cNvSpPr/>
            <p:nvPr/>
          </p:nvSpPr>
          <p:spPr>
            <a:xfrm>
              <a:off x="1672200" y="3651840"/>
              <a:ext cx="1189440" cy="12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lanne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Trial T &amp; L Metho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Professional Rea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Seek 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3"/>
            <p:cNvSpPr/>
            <p:nvPr/>
          </p:nvSpPr>
          <p:spPr>
            <a:xfrm>
              <a:off x="2550960" y="770760"/>
              <a:ext cx="118980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fess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ach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POLT VE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600" spc="-1" strike="noStrike">
                  <a:solidFill>
                    <a:srgbClr val="000000"/>
                  </a:solidFill>
                  <a:latin typeface="Times New Roman"/>
                </a:rPr>
                <a:t>VCE VCAL V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rot="10800000">
            <a:off x="3417840" y="2709360"/>
            <a:ext cx="230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2492280"/>
            <a:ext cx="20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.O.T.A.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800" spc="-1" strike="noStrike" u="sng">
                <a:solidFill>
                  <a:srgbClr val="000000"/>
                </a:solidFill>
                <a:uFillTx/>
                <a:latin typeface="Times New Roman"/>
              </a:rPr>
              <a:t>Teachers Observing Teaching &amp;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5:03:17Z</dcterms:created>
  <dc:creator> Gervasoni</dc:creator>
  <dc:description/>
  <dc:language>en-US</dc:language>
  <cp:lastModifiedBy> Gervasoni</cp:lastModifiedBy>
  <dcterms:modified xsi:type="dcterms:W3CDTF">2007-06-11T05:46:50Z</dcterms:modified>
  <cp:revision>3</cp:revision>
  <dc:subject/>
  <dc:title>Slide 1</dc:title>
</cp:coreProperties>
</file>